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1B6F-9F96-4804-88F7-84718735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8B8-3440-4185-BFA3-0FFF80A0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E356-18D4-4788-8EB5-EE81967B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3309-F011-451E-A001-D5C34096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4DF4-2B61-4949-8D36-616E9ACC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C130-C02A-4E87-96F8-9F32BF78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5EC-D347-4057-A3DC-762EE8AF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8FC-D4B3-4CB8-950D-4C8E381B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B5FB-6D49-4800-BD4F-BA5D8B5E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F519-301D-47B4-BCD4-BDED1BA9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8641-56C4-4018-85ED-66A91B7D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B6B8-2910-420F-87E1-8057A076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C56D-5A79-48AD-975C-04EAAD24B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8320" y="487440"/>
            <a:ext cx="452736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857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861080" cy="6324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851240" y="4795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4bb2"/>
                </a:solidFill>
                <a:latin typeface="Arial"/>
              </a:rPr>
              <a:t>Expl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951440" cy="6477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2640" y="4572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4bb2"/>
                </a:solidFill>
                <a:latin typeface="Arial"/>
              </a:rPr>
              <a:t>Elabo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509760"/>
            <a:ext cx="8229600" cy="6348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545960" y="45720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4bb2"/>
                </a:solidFill>
                <a:latin typeface="Arial"/>
              </a:rPr>
              <a:t>Evalu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55308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62012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867200" cy="6324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850520" y="4795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4bb2"/>
                </a:solidFill>
                <a:latin typeface="Arial"/>
              </a:rPr>
              <a:t>Eng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905360" cy="6400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850520" y="4795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4bb2"/>
                </a:solidFill>
                <a:latin typeface="Arial"/>
              </a:rPr>
              <a:t>Expl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8560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970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90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854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20:53:29Z</dcterms:created>
  <dc:creator>Tim McCollum</dc:creator>
  <dc:description/>
  <dc:language>en-US</dc:language>
  <cp:lastModifiedBy>Tim McCollum</cp:lastModifiedBy>
  <dcterms:modified xsi:type="dcterms:W3CDTF">2011-02-04T21:14:47Z</dcterms:modified>
  <cp:revision>3</cp:revision>
  <dc:subject/>
  <dc:title>PowerPoint Presentation</dc:title>
</cp:coreProperties>
</file>